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5BC-DD62-405F-8DFE-AC15A05B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8B3-AFD0-433A-A4A6-DBE9C879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0D9-EA4D-40DD-9250-54EA41AF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807-F62D-4B87-93D8-650AD877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AE90-08B5-4309-9074-4ECABEDA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50B0-9C5A-4BC2-9B71-0798EEC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1B8E-B8BC-4D98-B02B-964EDAB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D405-61CB-4C50-A72B-2A684727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8A28-1FEC-4318-8ACF-A658F16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4456-DDAF-44F3-A3BA-E25DF0A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F9C-7CF1-416D-B83C-7148FFE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540-E009-4577-9D7A-63803B8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2A4-AD05-4DF5-A15C-69C82267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DE1-AE2E-4704-9239-DAF3702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E6D-814B-4069-AA49-32C182A8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CE07-1CF6-4292-BC0B-71C71E7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965-A300-4224-8198-44D74BE8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217-B70F-4BD9-919E-58727923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9B9-E3FD-40E1-A210-116E1C2F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790-DAFB-4A93-8F21-E78B270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F12-CF76-4237-B6D0-BD1FF754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FD7-613E-47FF-A01B-E8ABE63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0CE-FD59-4E8D-AB81-39ABBBB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95D-C7F1-4A33-B745-B6D7179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4D2-5A52-4800-81DB-E42649BEA8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46E-59D9-438C-86F6-A16040E78D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nnotated Bibliograph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ue Borglund, PhD, R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ristine E. Lynn College of Nurs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o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ly cite or paraphrase interesting or meaningful quotes from the article you wish to rememb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fulness of the quote should be evident from its cont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sure to note the page number of the quote or paraphrase for later referen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the article’s clarity, purpose, or effectiven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you question about the thesis or main points? Or the argument supporting the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onnections are there between your knowledge &amp; experience, and the article’s information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yes/no questions – they limit thought &amp; dialog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the Annotated Bi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the citation written in APA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per, B. A. (1978). Fundamental patterns of knowing in nursing.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dvances in Nursing Science,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), 12-2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 attention to the details of a bib cit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pit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f ital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nging in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ize each article’s central thesis and respond critically to the major points supporting the the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es – generally 3-4 quotes/article. Include page numbers with the quo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ions – generally 2-3 questions. You are not expected to answer them – just raise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tach a copy of your annotation to the article you are annotating. Add comments as you reflect on its content. Start an alphabetical file of your annotated artic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mit the annotation as required by the professor for the course. Be sure to add a title page with the submiss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 example of an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nnotation was published in Meleis (1991). It has been shortened, but please note the lack of page numbers for the quotes included in the tex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aldson, S. K., &amp; Crowley, D. (1978). The discipline of nursing.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ursing Outlook, 26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2), 113-12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rticle poses a series of significant questions. It begins by noting the question of the nature of nursing, but addresses this through a subquestion: What are the recurrent themes in nursing inquiry? These could suggest  “boundaries” for systematic study of the discipline of nursing. There follows a long discussion of the nature of classification of disciplines. Nursing 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n as a “professional” discipline. It is noted as a discipline different from nursing science(“&gt;”) and nursing practice (“&gt;”). Finally, the structure of the discipline of nursing is considered, a generalization is offered (“nursing studies the wholeness or health of humans”), and some “major conceptualizations in nursing” are present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rticle is poorly organized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theless, this seminal work is challenging. It makes the point that nursing is a discipline and gives support to its focu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notated Bibliography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point 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gle, M., Blumenthal, A., &amp; Cosgrave, T. (2002, November 20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How to prepare an annotated bibliograph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Retrieved February 7, 2003, from Cornell University Library, Reference Department Web site: http://www.library.cornell.edu/okuref/research/skill28.ht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eleis, A. L. (1991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Theoretical nursing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(2</a:t>
            </a:r>
            <a:r>
              <a:rPr b="0" lang="en-US" sz="2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ed.). Philadelphia : Lippincot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ilhoit, S. (2001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A brief guide to writing from readings.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Needham Heights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A: Allyn &amp; Baco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illiams, O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Writing an annotated bibliograph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Retrieved February 7, 2003 from University of Minnesota, Crookston Library Web site: http://www.crk.umn.edu/library/links/annotate.ht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Bibliography?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n Annotati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ibliography is a list of citations put together on a topic of interest. The APA format is typically used in creating the typed copy in nurs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nnotation is a commentary a reader makes after critically reading an information source. It can include a summary of the reading, the reader’s response to the reading, and/or questions/comments addressing the article’s clarity, purpose, or effectiven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n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notated Bibliograph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nnotated Bibliography is a list of bibliographic citations that includes a descriptive and evaluative paragraph of each ci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s overall purpose is to support your study of a particular subject by providing a collection of succinct article summaries that will negate the need for rereading of an artic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do I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 by critically reading the article. View the reading as an interactive process in which your interpretation of author’s words is influenced by your own knowledge and experienc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tical readers attempt to dialogue with the text by asking tough questions on the article’s purpose, audience, language and cont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to ask about a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 is the author? His/her credentials?, bia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is the article published? What type of journal is it? What is the audien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I know about the topic? Am I open to new ide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was the article written? What is its purpos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author’s thesis? The major supporting points or asser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to ask about a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uthor support his/her thesis/asser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rticle achieve its purpo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 the article organiz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re the supporting sources cred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rticle change my viewpoint on the top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 the article convincing? What new information or ideas do I accept or re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rong annotation contai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ummary of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response to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st of interesting or meaningful qu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ions connecting the article and your knowledge and experien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ummary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 by succinctly stating the article’s thesis and major poin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/define key points and how they are connected or substanti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usefulness and the limitations of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mit in length to 3-4 grammatically correct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sponse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your reaction to the article as a who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relevance, accuracy, and quality of the citation and its conclu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 your response to the author’s ideas, argument, writing style or any other notable aspect of the artic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44:52Z</dcterms:created>
  <dc:creator>VALUED CUSTOMER</dc:creator>
  <dc:description/>
  <dc:language>en-US</dc:language>
  <cp:lastModifiedBy> Ethan Allen</cp:lastModifiedBy>
  <dcterms:modified xsi:type="dcterms:W3CDTF">2003-12-31T15:35:51Z</dcterms:modified>
  <cp:revision>4</cp:revision>
  <dc:subject/>
  <dc:title>The Annotated Bibliography</dc:title>
</cp:coreProperties>
</file>